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B416-D3CA-4C49-9BF4-FC6C588B1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525D-0565-4F2A-AAE3-38003E1D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9063-992A-4178-B19E-E12A183B8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C25E-092A-4FD7-9638-4753D7C75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9604-6C0E-47D2-B158-789F1FA0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53BB-61BD-4492-9BD3-47BB9DBE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75FD-DE3D-436A-944D-74C474FF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A959-0784-487A-AEC7-A01457D8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372F-FBA7-482B-9CE4-F5E14ACE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FD48-BA74-4857-AD0B-0999D84B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58CA-FCEE-4813-B6A0-14A5257C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BE95-71F3-4A08-8030-BD39821C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4C62-37E6-4BFD-BE61-36CB34D11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ahoma"/>
              </a:rPr>
              <a:t>-ick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ahoma"/>
              </a:rPr>
              <a:t>Word Famil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733920" y="2743200"/>
            <a:ext cx="76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91120" y="2743200"/>
            <a:ext cx="1676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ick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s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ick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E02928_" descr=""/>
          <p:cNvPicPr/>
          <p:nvPr/>
        </p:nvPicPr>
        <p:blipFill>
          <a:blip r:embed="rId1"/>
          <a:stretch/>
        </p:blipFill>
        <p:spPr>
          <a:xfrm>
            <a:off x="3733920" y="4114800"/>
            <a:ext cx="2280960" cy="22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00400" y="2743200"/>
            <a:ext cx="99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9880" y="274320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ick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954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p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ick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IN01121_" descr=""/>
          <p:cNvPicPr/>
          <p:nvPr/>
        </p:nvPicPr>
        <p:blipFill>
          <a:blip r:embed="rId1"/>
          <a:stretch/>
        </p:blipFill>
        <p:spPr>
          <a:xfrm>
            <a:off x="3657600" y="3962520"/>
            <a:ext cx="1633680" cy="226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124080" y="2743200"/>
            <a:ext cx="1067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t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86200" y="2743200"/>
            <a:ext cx="167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ick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68580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tr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ick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SO02951_" descr=""/>
          <p:cNvPicPr/>
          <p:nvPr/>
        </p:nvPicPr>
        <p:blipFill>
          <a:blip r:embed="rId1"/>
          <a:stretch/>
        </p:blipFill>
        <p:spPr>
          <a:xfrm>
            <a:off x="3048120" y="4267080"/>
            <a:ext cx="2743200" cy="18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8120" y="2743200"/>
            <a:ext cx="60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05320" y="274320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ick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76212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l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ick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E02756_" descr=""/>
          <p:cNvPicPr/>
          <p:nvPr/>
        </p:nvPicPr>
        <p:blipFill>
          <a:blip r:embed="rId1"/>
          <a:stretch/>
        </p:blipFill>
        <p:spPr>
          <a:xfrm>
            <a:off x="2971800" y="4114800"/>
            <a:ext cx="2698920" cy="17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8120" y="2743200"/>
            <a:ext cx="76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57600" y="2743200"/>
            <a:ext cx="167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ick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91440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R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ick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E02867_" descr=""/>
          <p:cNvPicPr/>
          <p:nvPr/>
        </p:nvPicPr>
        <p:blipFill>
          <a:blip r:embed="rId1"/>
          <a:stretch/>
        </p:blipFill>
        <p:spPr>
          <a:xfrm>
            <a:off x="3352680" y="4114800"/>
            <a:ext cx="147636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743200" y="2819520"/>
            <a:ext cx="99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57600" y="2819520"/>
            <a:ext cx="167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ick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14600" y="8380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w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ick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895480" y="4038480"/>
            <a:ext cx="1295640" cy="2514600"/>
            <a:chOff x="2895480" y="4038480"/>
            <a:chExt cx="1295640" cy="2514600"/>
          </a:xfrm>
        </p:grpSpPr>
        <p:graphicFrame>
          <p:nvGraphicFramePr>
            <p:cNvPr id="66" name=""/>
            <p:cNvGraphicFramePr/>
            <p:nvPr/>
          </p:nvGraphicFramePr>
          <p:xfrm>
            <a:off x="3581280" y="4038480"/>
            <a:ext cx="581040" cy="762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581280" y="4038480"/>
                      <a:ext cx="581040" cy="76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8" name=""/>
            <p:cNvGrpSpPr/>
            <p:nvPr/>
          </p:nvGrpSpPr>
          <p:grpSpPr>
            <a:xfrm>
              <a:off x="2895480" y="4572000"/>
              <a:ext cx="1295640" cy="1981080"/>
              <a:chOff x="2895480" y="4572000"/>
              <a:chExt cx="1295640" cy="1981080"/>
            </a:xfrm>
          </p:grpSpPr>
          <p:sp>
            <p:nvSpPr>
              <p:cNvPr id="69" name=""/>
              <p:cNvSpPr/>
              <p:nvPr/>
            </p:nvSpPr>
            <p:spPr>
              <a:xfrm>
                <a:off x="3657600" y="4952880"/>
                <a:ext cx="533520" cy="16002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886200" y="4572000"/>
                <a:ext cx="0" cy="3808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895480" y="4572000"/>
                <a:ext cx="9144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03:28:54Z</dcterms:created>
  <dc:creator>Wake County Public Schools</dc:creator>
  <dc:description/>
  <dc:language>en-US</dc:language>
  <cp:lastModifiedBy>Wake County Public Schools</cp:lastModifiedBy>
  <dcterms:modified xsi:type="dcterms:W3CDTF">2005-06-14T05:31:06Z</dcterms:modified>
  <cp:revision>15</cp:revision>
  <dc:subject/>
  <dc:title>-ill Word Family</dc:title>
</cp:coreProperties>
</file>